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6B2F-ADF7-4D6D-A529-2CE2C9604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6A10-76C6-44A7-9E29-82D620ED9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5A6-F6C4-4097-8593-A07C7B34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F66-DC0A-4BC5-8300-3C4C2D91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CAF-014D-486E-A3A5-C1537AC2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DBE-86EC-4FC7-A467-F9AE9B36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826B-CE39-4333-A5FA-4040D8F1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58F-E4FE-4B88-BF43-C9103693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6A24-5759-4AC8-91E5-A19849B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0EF-8F62-48FB-931E-1E657F14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A7B8-D02C-41CB-9FFD-E5FDC3E7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C9F-0E0E-46FA-9BD7-3EFEE2CD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21AA-51E8-49BC-A55E-5B5F8EA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1F7-98E9-488F-9450-B524C3BE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CB12-6E6E-41A3-96D4-938FC5EB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0C22-450E-4478-BB92-592D9EFA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1FD3-31C2-4231-BDF6-F934CF09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37ED-4E0F-480D-B84D-67F23A8F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3ACA-6D45-4319-A11A-4CFCCF70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0CA0F-E4EE-4D14-8D0E-659EE0CD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E3B1-F69E-422F-B85B-59456EF5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E3E7-253E-4375-B62F-CD3118AD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5FB3F-E668-4939-B61F-CFB35166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8DBB-A897-49D7-B8B8-C078AE20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640-26C7-44F0-881C-DAA7135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430BC-4963-4799-A03B-149D817A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E982-BF2D-4E8B-A74F-D8FB93A4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181E-68D7-4829-A367-2A80311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4B20-E9F7-4C49-9EC7-6BC79A18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0BBC-C5B0-4E4F-8E1A-7D62E25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3447-CD88-4464-A418-984952B2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07A2-BB0E-46AF-804B-C2839CD4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1259-76DA-4567-A31F-489EB661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5D2-2E79-4FFF-99B6-2D38CAD4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04F-9C28-4E21-AB0C-BA80D6D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EFE-1DB8-474F-A17C-638DC8C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C15-CF10-48D6-947B-498D78CA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9DD-496D-4781-B4E7-1352B2CD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95A-2CDE-4C13-B79B-9EFA30D746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E2F-64E5-4976-8454-5CA264CDB1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фон титульный.jpg"/>
          <p:cNvPicPr/>
          <p:nvPr/>
        </p:nvPicPr>
        <p:blipFill>
          <a:blip r:embed="rId2"/>
          <a:stretch/>
        </p:blipFill>
        <p:spPr>
          <a:xfrm>
            <a:off x="0" y="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1192-62C7-453B-B7C1-B58AC9BCD0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FC3-A0F3-4131-8243-66BA6DE7F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фон обычный.jpg"/>
          <p:cNvPicPr/>
          <p:nvPr/>
        </p:nvPicPr>
        <p:blipFill>
          <a:blip r:embed="rId2"/>
          <a:stretch/>
        </p:blipFill>
        <p:spPr>
          <a:xfrm>
            <a:off x="0" y="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943-95F2-40E9-8590-74C4B8363C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24D3-E344-412C-973D-73F1641C01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хема 4" descr=""/>
          <p:cNvPicPr/>
          <p:nvPr/>
        </p:nvPicPr>
        <p:blipFill>
          <a:blip r:embed="rId1"/>
          <a:stretch/>
        </p:blipFill>
        <p:spPr>
          <a:xfrm>
            <a:off x="-128520" y="1609560"/>
            <a:ext cx="9516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Администрации, руководителям ШМО О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анализ результатов диагностического тестирования по математике 12.01.2016 г. Держать на личном контроле работу учителей математики своего учреждения в урочное и внеурочное время по подготовке к ЕГЭ по математи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спользовать метод обмена учителями математики своей школы в организации занятий во внеурочное врем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сайте своей школы разместить графики дополнительных занятий с учащимися, выполнившими менее 7 заданий, с указанием даты, места, времени провед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BE6-BB3F-4AC2-86FA-5D2260ADA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чителям математ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2560" y="2285640"/>
            <a:ext cx="9001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вести анализ затруднений обучающихся по результатам диагностического тестирования 20.12.2014 г.  с целью их устра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братить внимание на отработку общеучебных умений и навыков учащихся, скорость вычислительных действий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без калькулятор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, развитие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ести работу с учащимися 11 классов по индивидуальному плану (в урочное и внеурочное время) подготовки к ЕГЭ в 2016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02EB-4973-458C-9648-BF55383124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E2D3-5AF3-4BAC-9159-8D73EEDF4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Участники тестир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09E-0393-4A6E-8BEE-E14BD2DE43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Содержимое 5"/>
          <p:cNvGrpSpPr/>
          <p:nvPr/>
        </p:nvGrpSpPr>
        <p:grpSpPr>
          <a:xfrm>
            <a:off x="480960" y="2054160"/>
            <a:ext cx="8261280" cy="4816440"/>
            <a:chOff x="480960" y="2054160"/>
            <a:chExt cx="8261280" cy="4816440"/>
          </a:xfrm>
        </p:grpSpPr>
        <p:pic>
          <p:nvPicPr>
            <p:cNvPr id="136" name="Содержимое 5" descr=""/>
            <p:cNvPicPr/>
            <p:nvPr/>
          </p:nvPicPr>
          <p:blipFill>
            <a:blip r:embed="rId1"/>
            <a:stretch/>
          </p:blipFill>
          <p:spPr>
            <a:xfrm>
              <a:off x="480960" y="2054160"/>
              <a:ext cx="826128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00040" y="2071800"/>
              <a:ext cx="8229600" cy="47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2060"/>
                  </a:solidFill>
                  <a:latin typeface="Calibri"/>
                </a:rPr>
                <a:t>14 общеобразовательных учреждений: </a:t>
              </a:r>
              <a:r>
                <a:rPr b="0" lang="ru-RU" sz="3200" spc="-1" strike="noStrike">
                  <a:solidFill>
                    <a:srgbClr val="002060"/>
                  </a:solidFill>
                  <a:latin typeface="Calibri"/>
                </a:rPr>
                <a:t>школы № 2,3, 4, 5,6,7,8,10, гимназия № 11, лицей №12, Шугуровская СОШ, Зеленорощинская СОШ, Тимяшевская СОШ, Старокувакская СОШ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Calibri"/>
                </a:rPr>
                <a:t>- 194 обучающихся</a:t>
              </a:r>
              <a:r>
                <a:rPr b="0" i="1" lang="ru-RU" sz="3200" spc="-1" strike="noStrike">
                  <a:solidFill>
                    <a:srgbClr val="c00000"/>
                  </a:solidFill>
                  <a:latin typeface="Calibri"/>
                </a:rPr>
                <a:t>, из 334 обучающихся,</a:t>
              </a:r>
              <a:r>
                <a:rPr b="1" i="1" lang="ru-RU" sz="3200" spc="-1" strike="noStrike">
                  <a:solidFill>
                    <a:srgbClr val="c00000"/>
                  </a:solidFill>
                  <a:latin typeface="Calibri"/>
                </a:rPr>
                <a:t>62,39 %</a:t>
              </a:r>
              <a:r>
                <a:rPr b="0" i="1" lang="ru-RU" sz="3200" spc="-1" strike="noStrike">
                  <a:solidFill>
                    <a:srgbClr val="c00000"/>
                  </a:solidFill>
                  <a:latin typeface="Calibri"/>
                </a:rPr>
                <a:t> от общего числа учащихся 11 классов ЛМ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400" y="149976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Часть первая содержит 8 заданий (задания 1-8) с кратким числовым ответом. Часть вторая содержит 11 заданий, всего 19 зад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аксимальное количество первичных баллов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за работу в целом –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34 балла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выполнение экзаменационной работы отводится 3 часа 55 минут (235 мин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инимальный порог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по математике определен в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первичных баллов, что соответствует 7 правильно выполненным заданиям 1 ч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D686-DA87-45A7-B3DE-9F34AF800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42960" y="85680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Лучшие результаты обучающихся 11-х клас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37F-1698-441E-920C-1363217EEF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000160"/>
          <a:ext cx="8001000" cy="4502160"/>
        </p:xfrm>
        <a:graphic>
          <a:graphicData uri="http://schemas.openxmlformats.org/drawingml/2006/table">
            <a:tbl>
              <a:tblPr/>
              <a:tblGrid>
                <a:gridCol w="1071720"/>
                <a:gridCol w="1595160"/>
                <a:gridCol w="1333800"/>
                <a:gridCol w="1333440"/>
                <a:gridCol w="1333440"/>
                <a:gridCol w="1333440"/>
              </a:tblGrid>
              <a:tr h="1125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.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%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25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П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С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ЯЧЕСЛАВО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2572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ГАН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Г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25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Ю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ДР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СТАНТИ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56800" y="142884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инимальный порог не преодоле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83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бучающихс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то составляет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42,78 %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т общего числа участников тестирования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3 школьников (6,7%) выполнили 3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3 школьников (6,7%) выполнили 4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6 школьников (13,4%) выполнили 5 зад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6 школьников (13,4%) выполнили 6 зад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22 школьника (11,34%) выполнили 7 заданий, входящие в группу р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FD8B-1E33-4903-A5ED-9FC341868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7120" y="13572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редний первичный балл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(первичный)-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7,39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амый высокий показатель среднего балла в СОШ № 6 – 10,37, в лицее № 12 – 9,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ше муниципального показ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Шугуровской СОШ – 8,5, в Тимяшевской СОШ – 8,4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2 - 7,81, в Старо-кувакской СОШ – 7,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7 – 7,5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же муниципального показателя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Зелено-Рощинской СОШ – 7, в СОШ № 5 – 6,94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8 – 6,5, в СОШ № 4 – 6,42, в СОШ № 3 – 5,8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ОШ № 10 – 5,35, в гимназии № 11 – 5,27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B84-4E17-4F02-8FA5-0722D6B06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714320"/>
            <a:ext cx="8686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спеваемость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в тестировании составила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57,22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100% успеваем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Шугуровской СОШ, в Тимяшевской СО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ыше муниципального показателя в СОШ № 6 – 93,75%, в СОШ № 5 – 72,23%, в СОШ № 7 -79,32 %, в Зелено-Рощинской СОШ – 70 %, в лицее № 12 – 78,95 %, в СОШ № 2 – 75 %, в СОШ № 8  – 65%, в гимназии № 11 -63,64 %, в СОШ № 3 – 60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иже муниципального показателя в СОШ № 4 –57,15%, в Старо-Кувакской СОШ – 50%, в СОШ № 10 – 35 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AFBE-421C-43AB-8A9D-CF6252F07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ровень обученности математике выпускников 11 классов на профильном уровне по результатам диагностического тестирования от 12.01.2016 г. считать неудовлетворительны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Уровень подготовки участников тестирования к экзамену в Шугуровской СОШ и Тимяшевской СОШ на удовлетворительном уровне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alibri"/>
              </a:rPr>
              <a:t>Выявлено усложнение заданий КИМ-ов в сравнении с КИМ-ми 09.10.2015 г.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1B62-8581-49E7-B8CB-1824BEDA7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У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2560" y="178596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овести анализ индивидуальных результатов диагностического тестирования по математике выпускников 11-х классов по ОУ Лениногорского муниципального район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Организовать дополнительные занятия для учащихся, имеющих трудности в подготовке к ЕГЭ по математике на профильном уровне в 2016 год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Организовать тестирование для учащихся с оценкой «2» в марте 2016 г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FD69-57C0-4F9F-AA5E-EDDC6234D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7T14:03:58Z</dcterms:created>
  <dc:creator>Фарит</dc:creator>
  <dc:description/>
  <dc:language>en-US</dc:language>
  <cp:lastModifiedBy>Загидуллина </cp:lastModifiedBy>
  <dcterms:modified xsi:type="dcterms:W3CDTF">2016-02-05T04:39:14Z</dcterms:modified>
  <cp:revision>174</cp:revision>
  <dc:subject/>
  <dc:title>Слайд 1</dc:title>
</cp:coreProperties>
</file>